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645-EEF5-44D0-8861-4443FF4E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FC6-33BE-43B3-B7D8-8E9229A7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E1A-784E-4A07-99EE-0579BEAE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129-9C4D-4778-ADAB-948A013B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937-1E6D-40CA-9F8B-7728C84B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561-D8C3-4A82-9E78-B08B7D47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2EE-740A-44A7-B8DB-9396ADE7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624-D625-41FF-8D89-4C491C59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DD6-A31C-49E8-BAC8-7F1E2320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ECB-811D-42F8-B272-D10A421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F40-B564-477F-9220-D1427390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879-9316-416A-8CF0-723FD0FD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BD89-4187-448E-B3B8-CEDAF4D6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arl think of a idea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n he make a mee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our project was really gud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Our project was really good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10. I fill we shood have won.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I feel we should have wo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arl think of a idea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Carl thinks of an idea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n he make a mee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Then he makes a meal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we will ete soup for lun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lik a lot of chease on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we will ete soup for lun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We will eat soup for lunch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lik a lot of chease on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We like a lot of cheese on i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ience project are not eis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heps to read about them fris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project are not eis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Science projects are not eas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heps to read about them fr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It helps to read about them firs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  My teme made an robot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8.  It teeth and eihgt wheel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.  My teme made an robot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My team made a robot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  It teeth and eihgt wheels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It has teeth and eight wheels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Hour project was really gud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I fill we shood have won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teacher</cp:lastModifiedBy>
  <dcterms:modified xsi:type="dcterms:W3CDTF">2010-11-01T00:26:21Z</dcterms:modified>
  <cp:revision>38</cp:revision>
  <dc:subject/>
  <dc:title>Slide 1</dc:title>
</cp:coreProperties>
</file>